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147-9845-4F53-A423-317F9C8D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6AC-FA98-4B2F-BC45-536A1551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4D3-B84E-49DB-9ADF-A55C6C4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176-8F33-4D1B-B8B4-1A167D25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BDFB-E65C-478D-A697-95FB61EA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26D8-A874-43F9-A284-168293E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BDE2-23C7-44C8-9189-4B8AA54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83D-A1B4-44E0-BDD2-F0CFCB92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0A0-D316-444B-8F35-6322E55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CBB-8570-4635-990E-C5FE999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FE0-77F9-4F5E-9BED-6FE3EB1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803-8B5A-4FA6-A1D6-9AAD54AF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26DB-FE52-45E1-9712-8EA82CD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6D9-4B97-44D3-B379-8734EC6F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541-C7D8-400D-BEA2-AD41AF4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0832-BE27-4513-918C-2A146222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9BE-F967-4546-B8C3-DACF4004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5696-6712-48AC-B630-044D51EA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9E9A-8625-4703-9DD9-96CC917B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5064-2E63-49BC-A72F-673744A4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DD73-53A3-4AD7-A805-68FC924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A438-27E0-49FE-AF67-94AFA73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A8C-6B14-419B-B63F-3F48E59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9574-BE58-48F3-BEDB-5745B64F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A610-86B1-4090-BA92-43387BB5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F081-5F2E-43A9-9F0C-02104F5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A198-4C5C-47C1-AB6F-41AF717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CFC5-1C2B-4A24-971F-5EDC792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87E1-4938-443F-94ED-79C89BA4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34F8-73FB-42A2-8B14-3816F8C0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DD07-32A0-4EBE-A127-2E4466A0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03D8-2C71-4B4B-A791-1ACC6C6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CCDE-9116-4CE0-8CE0-AEFC01CB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1D9-25C3-4606-9736-5E6C7BEF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54AE-BA12-4CD3-A5F6-9BE7CF8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65E7-AE4F-4E27-8F7A-94B545C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993D-288A-4508-8CEC-5E162E8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0FB8-E51B-45CA-A3C0-6E1F7B6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BB78-645D-4985-9C99-8786C63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4DD3-F337-471B-B94D-7E8FDFD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5F99-B650-4E31-AC65-010E42D7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F53D-283A-48A8-81BB-418F9FD6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B2A0-4146-4FC5-A236-0E3790DA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1EA46-A177-4AFA-A5B7-683ACE77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C56-5C22-4364-B9D9-F2A5FF5B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8C6A-FD45-4915-B978-9870020C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90CE-1A60-4C3B-9BED-C545328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897F-B63A-4934-B29E-D607C335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DE47-FFB7-432D-945F-DAEC3C8C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72FAF-8149-4BDA-B46F-1965692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E45A-49DD-4696-B7FC-3A3AF40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4C3E-3150-40D8-B0F4-31FA577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C556-5C3C-40A5-B26A-3322B24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D4A3-7A84-425E-9370-780FFB6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5F46-A051-4ADC-8D66-3A1DAEE3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EE3-F304-401B-BA57-3218C0D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A8E0-1C30-4C59-897D-DDDF937A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3799-F70A-4FB4-BCFD-AC2F7B4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4152-DE1A-414D-8890-91B73E5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158D-543E-4535-AC96-6E0A874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6E82D-0275-42A9-96C2-4241286B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92AF-7B5C-4F8A-B1A4-576A9129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9341-C5E9-4B2E-B126-4F974D4B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515E-E0DA-4A3A-966B-D978DE6F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116B5-BEFF-4A7E-A57C-1160F39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9E35-6DD3-41D6-A321-E4D3275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792-95F2-40B0-AF57-0BC9EE1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33C5-2CE8-4138-A37E-D5DA567F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54709-BD0F-4B21-BA31-E62855BA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074E-2167-41CF-9A33-AC10EBD7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F01-D989-44F5-815E-A8D7A741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87D-3876-43E7-9080-74C7B40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CF0A-9399-4582-8C9F-36884CB9447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E8B-3CF7-41D1-893D-907877AEF15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946B-AC52-4CF3-97DF-C98E6AD8F95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1919-E27D-4445-B44C-812777BD425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F8B1-4308-43E2-9A8E-B03A276D59B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8836-4DF1-4E35-8414-5FBF65C0E1E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stok.ru/library/learn-n-teach/teaching-up/art-of-teaching-rubinof/art-of-teaching-rubinof_35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901880" y="60480"/>
            <a:ext cx="7132680" cy="2365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дуль - </a:t>
            </a:r>
            <a:r>
              <a:rPr b="1" i="1" lang="ru-RU" sz="2200" spc="-1" strike="noStrike">
                <a:solidFill>
                  <a:srgbClr val="ffffff"/>
                </a:solidFill>
                <a:latin typeface="Trebuchet MS"/>
              </a:rPr>
              <a:t>ОБУЧЕНИЕ ТОМУ, КАК УЧИТЬС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448840" cy="1451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правильно оценивать ту помощь, в которой учащийся нуждается, а какая помощь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ШНЯЯ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тель проговаривает вслух, как экспертные модели, как они решают задачу и т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7340760" cy="1176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вопросы учащихся СЕБЕ намного эффективнее, чем вопросы со сторон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пример, «Не упустил я что-либо важное?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но до решения задачи или после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троль над мышлением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564320" cy="1176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стоятельно или в парах во время решения задачи или другого письменного упражнения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позволяет вовремя заметить ошибки и неправильные ходы мысли, а также увидеть специфически психологические затруднения. Большинство учащихся не могут спонтанно использовать эту технику и нуждаются в руководстве или побужден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тель обсуждает с классом  важность  памяти  в  успешном  обучени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тель спрашивает учащихся,    как они запоминают пройденный материал, пытаются ли они использовать  определенные  стратегии  запоминания,   помогающие  им в этом, например графики, рисунки, ассоциации и стихи, и т.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50720" y="61596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огут использоваться тесты, которые учащийся использует только для того, чтобы понять и проверить свой уровень знания.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Усвоил ли я эту тему? Хорошо ли я это понял?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2012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дают учащемуся автономность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езависимость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вободу от учител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ям следует помогать ученикам  связывать новый материал с тем, что ученики уже знаю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Делайте это в начале урока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Связывайте то, что вводите</a:t>
            </a:r>
            <a:r>
              <a:rPr b="0" i="1" lang="en-US" sz="2400" spc="-1" strike="noStrike">
                <a:solidFill>
                  <a:srgbClr val="800000"/>
                </a:solidFill>
                <a:latin typeface="Trebuchet MS"/>
              </a:rPr>
              <a:t>/</a:t>
            </a: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объясняете с тем, что ученики уже знают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Учителям следует неоднократно выделять и подчеркивать, что же </a:t>
            </a:r>
            <a:r>
              <a:rPr b="0" i="1" lang="ru-RU" sz="2400" spc="-1" strike="noStrike" u="sng">
                <a:solidFill>
                  <a:srgbClr val="800000"/>
                </a:solidFill>
                <a:uFillTx/>
                <a:latin typeface="Trebuchet MS"/>
              </a:rPr>
              <a:t>нового</a:t>
            </a: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 ученики будут изучать и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почему так важен и значим тот материал, который  ученики будут изучать. Приводите яркие примеры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которые опытные учителя кратко перед уроком говорят ученикам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ни будут изучать на урок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800" spc="-1" strike="noStrike">
                <a:solidFill>
                  <a:srgbClr val="b83d68"/>
                </a:solidFill>
                <a:latin typeface="Trebuchet MS"/>
              </a:rPr>
              <a:t>Это помогает ученикам узнать, что их ожидает, помогает лучше настроиться на новый материа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ля обратной связи в конце урока полезно всегда просить учеников написать, что нового они узнали на урок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ru-RU" sz="2800" spc="-1" strike="noStrike">
                <a:solidFill>
                  <a:srgbClr val="800000"/>
                </a:solidFill>
                <a:latin typeface="Trebuchet MS"/>
              </a:rPr>
              <a:t>Это поможет самим ученикам определить</a:t>
            </a:r>
            <a:r>
              <a:rPr b="0" i="1" lang="en-US" sz="2800" spc="-1" strike="noStrike">
                <a:solidFill>
                  <a:srgbClr val="800000"/>
                </a:solidFill>
                <a:latin typeface="Trebuchet MS"/>
              </a:rPr>
              <a:t>/</a:t>
            </a:r>
            <a:r>
              <a:rPr b="0" i="1" lang="ru-RU" sz="2800" spc="-1" strike="noStrike">
                <a:solidFill>
                  <a:srgbClr val="800000"/>
                </a:solidFill>
                <a:latin typeface="Trebuchet MS"/>
              </a:rPr>
              <a:t>осознать, поняли ли они материал урока и нужно ли им самостоятельно дорабатывать ег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9528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Другие стратеги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9240" y="73080"/>
            <a:ext cx="8486640" cy="725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c6c6c"/>
                </a:solidFill>
                <a:latin typeface="Trebuchet MS"/>
              </a:rPr>
              <a:t>Домашняя работа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c6c6c"/>
                </a:solidFill>
                <a:latin typeface="Trebuchet MS"/>
              </a:rPr>
              <a:t>На уроке учитель ОБЯЗАТЕЛЬНО объясняет, что требуется от ученика в домашнем задании и </a:t>
            </a:r>
            <a:r>
              <a:rPr b="0" lang="ru-RU" sz="2200" spc="-1" strike="noStrike" u="sng">
                <a:solidFill>
                  <a:srgbClr val="6c6c6c"/>
                </a:solidFill>
                <a:uFillTx/>
                <a:latin typeface="Trebuchet MS"/>
              </a:rPr>
              <a:t>зачем они это делают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i="1" lang="ru-RU" sz="2200" spc="-1" strike="noStrike">
                <a:solidFill>
                  <a:srgbClr val="b83d68"/>
                </a:solidFill>
                <a:latin typeface="Trebuchet MS"/>
              </a:rPr>
              <a:t>Ученики поймут цель – для чего выполняется это домашнее задание, и что это задание не ради задания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7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c6c6c"/>
                </a:solidFill>
                <a:latin typeface="Trebuchet MS"/>
              </a:rPr>
              <a:t>Далее учитель спрашивает учащихся, как они собираются выполнять это домашнее задание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i="1" lang="ru-RU" sz="2200" spc="-1" strike="noStrike">
                <a:solidFill>
                  <a:srgbClr val="b83d68"/>
                </a:solidFill>
                <a:latin typeface="Trebuchet MS"/>
              </a:rPr>
              <a:t>Ученики смогут оценить свои знания – что они уже знают для его выполнения, а что им нужно еще выучить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На следующем уроке учитель спрашивает, какие трудности были при выполнении и какие стратегии ученики применяли, чтобы преодолеть их 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2" marL="7509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65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етапознание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Джону Флейвеллу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знание о собственных мыслительных      процессах и стратегиях, способности к сознательной их рефлексии, изменению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осуществлению действий, основанных на этом знани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Чтобы учителя могли помочь учащимся развивать навыки саморегуляции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м нужно помочь учащимся осознать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Что они уже  знают по теме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-53352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Какова цель задания</a:t>
            </a:r>
            <a:r>
              <a:rPr b="0" i="1" lang="en-US" sz="2400" spc="-1" strike="noStrike">
                <a:solidFill>
                  <a:srgbClr val="800000"/>
                </a:solidFill>
                <a:latin typeface="Trebuchet MS"/>
              </a:rPr>
              <a:t>/</a:t>
            </a: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урока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-53352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Какие ресурсы имеются у ученика для выполнения задания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-53352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rebuchet MS"/>
              </a:rPr>
              <a:t>Каков уровень тревожности ученика- что ученик чувствует, насколько волнуется по поводу выполнения этого задания или теста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бы  развивать навыки саморегуляции, учителям также  следует учить детей следующем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6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контролировать время для выполнения задания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6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в классе и дома</a:t>
            </a:r>
            <a:r>
              <a:rPr b="0" i="1" lang="en-US" sz="2000" spc="-1" strike="noStrike">
                <a:solidFill>
                  <a:srgbClr val="6c6c6c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6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организовать рабочее место и нужные материалы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6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продумать до начала выполнения, как задание будет выполняться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6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подумать о стратегиях, что нужно предпринять, если задание  не получается-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  </a:t>
            </a: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(учебник,записи в тетради, консультация у ученика с сильными навыками обученности, помощь в Интернете и т</a:t>
            </a:r>
            <a:r>
              <a:rPr b="0" i="1" lang="en-US" sz="2000" spc="-1" strike="noStrike">
                <a:solidFill>
                  <a:srgbClr val="6c6c6c"/>
                </a:solidFill>
                <a:latin typeface="Trebuchet MS"/>
              </a:rPr>
              <a:t>.</a:t>
            </a: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д</a:t>
            </a:r>
            <a:r>
              <a:rPr b="0" i="1" lang="en-US" sz="2000" spc="-1" strike="noStrike">
                <a:solidFill>
                  <a:srgbClr val="6c6c6c"/>
                </a:solidFill>
                <a:latin typeface="Trebuchet MS"/>
              </a:rPr>
              <a:t>.</a:t>
            </a:r>
            <a:r>
              <a:rPr b="0" i="1" lang="ru-RU" sz="2000" spc="-1" strike="noStrike">
                <a:solidFill>
                  <a:srgbClr val="6c6c6c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телю нужно учить учащихся мониторить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леживать само выполнение задания  (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 п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учается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 не получается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чему у меня не получается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 делать в этом случае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делать рефлексию выполненного задания- праильно ли я выполнил? Почему неправильно? Где моя ошибка? И т.д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19" descr=""/>
          <p:cNvPicPr/>
          <p:nvPr/>
        </p:nvPicPr>
        <p:blipFill>
          <a:blip r:embed="rId1"/>
          <a:stretch/>
        </p:blipFill>
        <p:spPr>
          <a:xfrm>
            <a:off x="1116000" y="255600"/>
            <a:ext cx="6815160" cy="1000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graphic organizer for students to use as they are doing a project (KW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520" y="3048120"/>
          <a:ext cx="7924680" cy="17222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 Want to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 Have L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Я постоянно спрашиваю себя,  достигаю  ли я цели уроков и зада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режде чем ответить на вопрос, я рассматриваю несколько вариант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Я пытаюсь использовать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ути решения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ыполнения, которые я использовал/a раньш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Я знаю свои сильные и слабые стороны в изучении нового матери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Я знаю сразу по окончанию теста, как я с ним справилась/ся     И тд (прилагается в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Word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мере развития метапознавательных  навыков, ученики с большей степенью ответственности берут под контроль свое развитие, и оно приобретает характер саморегулируемого процесс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В настоящее время формирование  метапознавательных навыков становится центральной задачей, так как идеи Программы направлены  на воспитание учеников, ответственных за свое обуч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244440" y="23760"/>
            <a:ext cx="8448840" cy="1176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-как измерить знание о знании наших учащихся более тщательно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естирование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опросники,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нтервью, словесные отче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://istok.ru/library/learn-n-teach/teaching-up/art-of-teaching-rubinof/art-of-teaching-rubinof_35.htm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rebuchet MS"/>
              </a:rPr>
              <a:t>Исследования Марзано (1998) , посвященному анализу 4000 различных методик преподавания, показало, что наилучших результатов обучения достигли те учителя, которые делали акцент на анализе учениками своих мыслительных процессов, а также на том, что ученики сами думают об эффективности своего обучения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А. Основной компонент - анализ собственных мыслительных процессов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Хорошие ученики осведомлены о том, как именно они думают и способны принимать правильные решения об эффективных стратегия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. Планирование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ченик на этой стадии  ведет внутренний диалог о том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 он мог бы сделать, и что было бы наиболее эффективно в данных обстоятельства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.  Мониторинг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Проверка эффективности используемых планов и стратегий. Постоянный мониторинг процессов мышления и внесение необходимых изменен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523360" cy="79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- общеучебные и познавательные навык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ланирование и перепланирование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оцен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флекси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мение задавать  вопросы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мение видеть сложные места и прояснять их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мение суммировать прочитанное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мение предсказывать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стоянный контроль за своей текущей деятельностью и анализ ее с точки зрения правильности, коррекция, самопроверка результатов собственных действий и т.д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304920" y="328680"/>
            <a:ext cx="7407000" cy="1158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Это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зволяет ученику возможность управлять собственной познавательной деятельностью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.е.развивать самоэффектив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ыть успешным как в учебе, так и в жизни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 адаптироваться к новым задача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Trebuchet MS"/>
              </a:rPr>
              <a:t>развивать умения учиться самостоятельно на протяжении всей жизн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rebuchet MS"/>
              </a:rPr>
              <a:t>приобретать навыки работы над  проектами в коман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аренные и способные дети всегда имеют развитые метапознавательные навыки, те отчетливо знают, ЧТО ОНИ ЗНАЮТ, а также что они в состоянии и не в состоянии узнать и  Что может помочь им получить те знания, которые им необходим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44440" y="-115920"/>
            <a:ext cx="844884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ефлексирующие вопросы и побужд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ддержка – метакогнитивные  ” леса”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оделирова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опросы для себ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умание вслух и объяснение для себ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ценивание себ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спользование график и рисунков для собственного понимани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44440" y="-42840"/>
            <a:ext cx="8448840" cy="11764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центрация внимания учащихся на деталях, выработка критического мышления и составление плана действ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Вопросы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что это? И как это? Что дальше?- что ученик сделал, делает и будет делать дальш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буждение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конкретный вопрос- например,  “можешь ли ты  изменить цель?” –специфика и приме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перефразирование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 суммирование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го, что сказал ученик, которому нужна помощь, Это стимулирует высказывание ученика для лучшего понимания себя и материа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43:54Z</dcterms:created>
  <dc:creator>Наталья</dc:creator>
  <dc:description/>
  <dc:language>en-US</dc:language>
  <cp:lastModifiedBy>Dinara2</cp:lastModifiedBy>
  <dcterms:modified xsi:type="dcterms:W3CDTF">2015-10-09T10:46:54Z</dcterms:modified>
  <cp:revision>104</cp:revision>
  <dc:subject/>
  <dc:title>Модуль  ОБУЧЕНИЕ ТОМУ, КАК УЧИТЬСЯ</dc:title>
</cp:coreProperties>
</file>